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0285-E863-4450-B923-645FF30C9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7093-5C63-4E12-8715-F9AD2D42F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E763-BB1E-416B-904B-E8AFBFA91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2597-A6A4-4264-99C1-A88AF2743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51BA-0168-440C-B1AA-2CB3212C9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EC30-7289-44A9-9C37-4ED622E96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3364-2CBD-4CB3-AD06-424E5709A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9370-309E-466C-BDC2-69724A618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4DEA-DC3B-4DB8-BF84-DB56B9130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236A-7FBA-4954-816A-31A7E004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6811-D36E-427B-95B6-970D13D9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E74C-46B4-4A63-A5CE-FF1ABF1A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0718D-759B-4732-9CD8-CCC0B20BB2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6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7" descr=""/>
          <p:cNvPicPr/>
          <p:nvPr/>
        </p:nvPicPr>
        <p:blipFill>
          <a:blip r:embed="rId1"/>
          <a:stretch/>
        </p:blipFill>
        <p:spPr>
          <a:xfrm>
            <a:off x="1420920" y="835200"/>
            <a:ext cx="638172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71680" y="1599840"/>
            <a:ext cx="78580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Итак, заряд движется в плоскости, образуемой  векторами  и  (т.е. в плоскости 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z=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)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. Движение вдоль оси Оу происходит с постоянной скоростью, т.к. сила действует только в направлении оси 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Ox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. Движение заряда вдоль оси Ох слагается из движения по инерции с начальной скоростью 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и колебания с частотой 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изменения заданной сил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1" descr=""/>
          <p:cNvPicPr/>
          <p:nvPr/>
        </p:nvPicPr>
        <p:blipFill>
          <a:blip r:embed="rId1"/>
          <a:stretch/>
        </p:blipFill>
        <p:spPr>
          <a:xfrm>
            <a:off x="5572080" y="2143080"/>
            <a:ext cx="466920" cy="6192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6540480" y="2117880"/>
            <a:ext cx="438120" cy="6951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3"/>
          <a:stretch/>
        </p:blipFill>
        <p:spPr>
          <a:xfrm>
            <a:off x="2921040" y="6000840"/>
            <a:ext cx="34272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Условие зада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Заряд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e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массы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m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движется между обкладками плоского конденсатора, где напряжённость электрического поля меняется по закон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где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и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- постоянные величины. В момент времени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=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0 заряд находился в положении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и имел скорость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относительно системы отсчёта, связанной с пластинами конденсатора. Найти положение с скорость заряда в любой момент времени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&gt;0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2928960" y="3214800"/>
            <a:ext cx="2685960" cy="6188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2"/>
          <a:stretch/>
        </p:blipFill>
        <p:spPr>
          <a:xfrm>
            <a:off x="1143000" y="3714840"/>
            <a:ext cx="466560" cy="6192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3"/>
          <a:stretch/>
        </p:blipFill>
        <p:spPr>
          <a:xfrm>
            <a:off x="2428920" y="3714840"/>
            <a:ext cx="342720" cy="6192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9" descr=""/>
          <p:cNvPicPr/>
          <p:nvPr/>
        </p:nvPicPr>
        <p:blipFill>
          <a:blip r:embed="rId4"/>
          <a:stretch/>
        </p:blipFill>
        <p:spPr>
          <a:xfrm>
            <a:off x="7000920" y="4214880"/>
            <a:ext cx="380880" cy="6192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11" descr=""/>
          <p:cNvPicPr/>
          <p:nvPr/>
        </p:nvPicPr>
        <p:blipFill>
          <a:blip r:embed="rId5"/>
          <a:stretch/>
        </p:blipFill>
        <p:spPr>
          <a:xfrm>
            <a:off x="2143080" y="4714920"/>
            <a:ext cx="43812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оставляем уравнение движ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714480" y="1599840"/>
            <a:ext cx="542916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Из условия видно, что на заряд действует си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и уравнение движения будет иметь ви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500040" y="1785960"/>
            <a:ext cx="3368520" cy="40003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4881600" y="2948040"/>
            <a:ext cx="2905200" cy="6951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3"/>
          <a:stretch/>
        </p:blipFill>
        <p:spPr>
          <a:xfrm>
            <a:off x="4786200" y="5024520"/>
            <a:ext cx="322920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ассматриваем действие сил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000320" y="1599840"/>
            <a:ext cx="514332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ила в любой момент времени коллинеарна постоянному вектору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. Поэтому ускорение и приращение скорости также коллинеарны вектору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. Следовательно, движение заряда происходит в плоскости, задаваемой векторами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и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500040" y="1785960"/>
            <a:ext cx="3368520" cy="40003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1" descr=""/>
          <p:cNvPicPr/>
          <p:nvPr/>
        </p:nvPicPr>
        <p:blipFill>
          <a:blip r:embed="rId2"/>
          <a:stretch/>
        </p:blipFill>
        <p:spPr>
          <a:xfrm>
            <a:off x="7966080" y="2546280"/>
            <a:ext cx="466560" cy="695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" descr=""/>
          <p:cNvPicPr/>
          <p:nvPr/>
        </p:nvPicPr>
        <p:blipFill>
          <a:blip r:embed="rId3"/>
          <a:stretch/>
        </p:blipFill>
        <p:spPr>
          <a:xfrm>
            <a:off x="6286680" y="5929200"/>
            <a:ext cx="466560" cy="6955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4"/>
          <a:stretch/>
        </p:blipFill>
        <p:spPr>
          <a:xfrm>
            <a:off x="7192800" y="5973840"/>
            <a:ext cx="438480" cy="695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" descr=""/>
          <p:cNvPicPr/>
          <p:nvPr/>
        </p:nvPicPr>
        <p:blipFill>
          <a:blip r:embed="rId5"/>
          <a:stretch/>
        </p:blipFill>
        <p:spPr>
          <a:xfrm>
            <a:off x="7951680" y="3997440"/>
            <a:ext cx="46692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Выбор системы координа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643200" y="1599840"/>
            <a:ext cx="55008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 соответствии с изложенным выберем систему декартовых координат, начало которой жёстко связано с конденсатор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Одну из осе направим вдоль вектора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   (ось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Ox)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, а плоскость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z=0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совместим с плоскостью движ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285840" y="1785960"/>
            <a:ext cx="3368520" cy="40003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1" descr=""/>
          <p:cNvPicPr/>
          <p:nvPr/>
        </p:nvPicPr>
        <p:blipFill>
          <a:blip r:embed="rId2"/>
          <a:stretch/>
        </p:blipFill>
        <p:spPr>
          <a:xfrm>
            <a:off x="5407200" y="4549680"/>
            <a:ext cx="46656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ахождение проекций сил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 связи с выбранной системой координат проекции  силы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на координатные оси имеют ви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а проекции радиус-вектора и скорости на ось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Oz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равны нулю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4071960" y="2000160"/>
            <a:ext cx="2905200" cy="6955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3129120" y="3357720"/>
            <a:ext cx="2800080" cy="61884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3"/>
          <a:stretch/>
        </p:blipFill>
        <p:spPr>
          <a:xfrm>
            <a:off x="3500280" y="4260960"/>
            <a:ext cx="225756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ахождение уравнений движ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роектирую левую и правую части векторного  уравнения движения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на оси выбранной системы, получим три дифференциальных уравнения движ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4429080" y="2071800"/>
            <a:ext cx="3229200" cy="6188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1" descr=""/>
          <p:cNvPicPr/>
          <p:nvPr/>
        </p:nvPicPr>
        <p:blipFill>
          <a:blip r:embed="rId2"/>
          <a:stretch/>
        </p:blipFill>
        <p:spPr>
          <a:xfrm>
            <a:off x="3171960" y="3857760"/>
            <a:ext cx="3257280" cy="61884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3"/>
          <a:stretch/>
        </p:blipFill>
        <p:spPr>
          <a:xfrm>
            <a:off x="3852720" y="4643280"/>
            <a:ext cx="1505160" cy="6192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4"/>
          <a:stretch/>
        </p:blipFill>
        <p:spPr>
          <a:xfrm>
            <a:off x="3890880" y="5500800"/>
            <a:ext cx="1467000" cy="6188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7"/>
          <p:cNvSpPr/>
          <p:nvPr/>
        </p:nvSpPr>
        <p:spPr>
          <a:xfrm>
            <a:off x="0" y="10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нтегрирование уравне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Интегрируем найденные уравнения  первый раз и находи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Интегрируем уравнения движения второй ра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895320" y="2643120"/>
            <a:ext cx="3819600" cy="11048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2"/>
          <a:stretch/>
        </p:blipFill>
        <p:spPr>
          <a:xfrm>
            <a:off x="5396040" y="2928960"/>
            <a:ext cx="2962080" cy="6192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7" descr=""/>
          <p:cNvPicPr/>
          <p:nvPr/>
        </p:nvPicPr>
        <p:blipFill>
          <a:blip r:embed="rId3"/>
          <a:stretch/>
        </p:blipFill>
        <p:spPr>
          <a:xfrm>
            <a:off x="2143080" y="4357800"/>
            <a:ext cx="5724720" cy="11048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9" descr=""/>
          <p:cNvPicPr/>
          <p:nvPr/>
        </p:nvPicPr>
        <p:blipFill>
          <a:blip r:embed="rId4"/>
          <a:stretch/>
        </p:blipFill>
        <p:spPr>
          <a:xfrm>
            <a:off x="2357280" y="5643720"/>
            <a:ext cx="515304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спользование начальных услов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одставляя в полученные функции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=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0 и используя условия, получим решение для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     в ви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А для    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5072040" y="2000160"/>
            <a:ext cx="866880" cy="6955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1486080" y="3857760"/>
            <a:ext cx="799920" cy="6188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3"/>
          <a:stretch/>
        </p:blipFill>
        <p:spPr>
          <a:xfrm>
            <a:off x="857160" y="2714760"/>
            <a:ext cx="4438800" cy="11048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7" descr=""/>
          <p:cNvPicPr/>
          <p:nvPr/>
        </p:nvPicPr>
        <p:blipFill>
          <a:blip r:embed="rId4"/>
          <a:stretch/>
        </p:blipFill>
        <p:spPr>
          <a:xfrm>
            <a:off x="5929200" y="2928960"/>
            <a:ext cx="2562480" cy="6192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9" descr=""/>
          <p:cNvPicPr/>
          <p:nvPr/>
        </p:nvPicPr>
        <p:blipFill>
          <a:blip r:embed="rId5"/>
          <a:stretch/>
        </p:blipFill>
        <p:spPr>
          <a:xfrm>
            <a:off x="1928880" y="4286160"/>
            <a:ext cx="6256440" cy="100008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6"/>
          <a:stretch/>
        </p:blipFill>
        <p:spPr>
          <a:xfrm>
            <a:off x="3149640" y="5524560"/>
            <a:ext cx="3351240" cy="5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0T12:01:52Z</dcterms:created>
  <dc:creator>Михаил</dc:creator>
  <dc:description/>
  <dc:language>en-US</dc:language>
  <cp:lastModifiedBy>Михаил</cp:lastModifiedBy>
  <dcterms:modified xsi:type="dcterms:W3CDTF">2010-10-17T19:43:12Z</dcterms:modified>
  <cp:revision>11</cp:revision>
  <dc:subject/>
  <dc:title>Слайд 1</dc:title>
</cp:coreProperties>
</file>